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1AC-646B-4E28-89BE-67B2DAAF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E031-FFAC-4CC6-933A-73C3676F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BC4-C48C-475D-8FDF-A03193FD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830-1667-4933-A3A6-8BD6109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28C-33BA-475A-960F-E65079FC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BA8-DE48-44E0-A0D6-1E59F464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282-28AE-4CFD-8A52-20DDCD6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F77-5A14-4E54-B3ED-192C23C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88-AB33-480B-8905-30AA122E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7D7-33AC-4E1E-BF4A-3865E8CE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3F0-392F-44DC-8AB5-8C31096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345-F290-4775-846A-92B156E8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8CA-DC9F-4272-B81D-F998A12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247-07F8-4761-8338-684339D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9B2E-FB07-4687-95C1-B6BF46EB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352520"/>
            <a:ext cx="506880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Keyword Insertion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Try It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7620120" y="423720"/>
            <a:ext cx="17604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0" name="Content Placeholder 2"/>
          <p:cNvGrpSpPr/>
          <p:nvPr/>
        </p:nvGrpSpPr>
        <p:grpSpPr>
          <a:xfrm>
            <a:off x="353880" y="2389320"/>
            <a:ext cx="9618840" cy="5468760"/>
            <a:chOff x="353880" y="2389320"/>
            <a:chExt cx="9618840" cy="5468760"/>
          </a:xfrm>
        </p:grpSpPr>
        <p:pic>
          <p:nvPicPr>
            <p:cNvPr id="5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2389320"/>
              <a:ext cx="9618840" cy="54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92200" y="2624040"/>
              <a:ext cx="9144000" cy="49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riting Grades 11 – 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rite arguments to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ppor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claims in an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nalys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bstantiv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opics or texts, using vali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in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relevant and sufficient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troduce precise, knowledgeabl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stabl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significance of th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stingu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claim(s) from alternate or opposing claims, and create an organization that logically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equen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aim(s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unterclaim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Revised 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778040"/>
          <a:ext cx="10159920" cy="1209024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3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68200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 use their research findings to clarify the opinions,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n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tate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istinguis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ir editorials. Based on revised opinion statements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new researc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tudents appl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alysis to establish significance of a claim or counterclaim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developing specific supporting arguments using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om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primary and secondary sourc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920"/>
            <a:ext cx="914400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960" y="2963520"/>
            <a:ext cx="91440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Task Revis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78040"/>
          <a:ext cx="10159920" cy="1056636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0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985536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 editorial writing, students identify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evelo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ypes and potential sources of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, 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best support the opinions they plan to express in their editorials. Students identif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strengths and limitation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align with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udien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interest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ticipated bias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3:01:35Z</dcterms:modified>
  <cp:revision>5</cp:revision>
  <dc:subject/>
  <dc:title>PowerPoint Presentation</dc:title>
</cp:coreProperties>
</file>