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DD70-7C5A-4E1A-8F09-E99087E2C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329E-108A-4369-9741-DBEE2068F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1A4-9F66-45A8-891B-4B6E8E16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221-FE65-4CAC-B719-108EE3CA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BC7-B0DE-4123-BFB0-FE849EE2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3DC-6177-4A4D-B24C-6776DD20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EFD-5B2D-4CAA-B2B6-8BC53FCE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A74-296F-4656-A654-F2245C5B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D82-B067-4796-A902-49066FEE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0CF-BB7E-4D55-BDBD-28A621C9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BE2-B398-487B-A62D-5FF0C2B0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134-A4F0-47CD-A25E-C7690704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978-DF06-460C-81EA-8112B461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B50-295C-4F04-8AF8-86C51546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3A8E-D115-4F09-BB98-35602E4D4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754360" y="1352520"/>
            <a:ext cx="5068800" cy="32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ndara"/>
              </a:rPr>
              <a:t>Keyword Insertion 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June 3, 20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Let’s Try It!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hoose a standard in a grade-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rite a task that teaches to that standard, using something already in your curricul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ighlight or underlin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key wor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Re-write the task adding in the highlighted key words from the standard to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iscuss how the task 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C:\Documents and Settings\Teaching Matters Inc\Local Settings\Temporary Internet Files\Content.IE5\Y4TIZTX0\MC900057374[1].wmf"/>
          <p:cNvPicPr/>
          <p:nvPr/>
        </p:nvPicPr>
        <p:blipFill>
          <a:blip r:embed="rId1"/>
          <a:stretch/>
        </p:blipFill>
        <p:spPr>
          <a:xfrm>
            <a:off x="7620120" y="423720"/>
            <a:ext cx="176040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Common Core Standards Anchor Standard 1:</a:t>
            </a:r>
            <a:br>
              <a:rPr sz="3600"/>
            </a:b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Write arguments to support claims in an analysis of substantive topics or texts, using valid reasoning and relevant and sufficient evidence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50" name="Content Placeholder 2"/>
          <p:cNvGrpSpPr/>
          <p:nvPr/>
        </p:nvGrpSpPr>
        <p:grpSpPr>
          <a:xfrm>
            <a:off x="353880" y="2389320"/>
            <a:ext cx="9618840" cy="5468760"/>
            <a:chOff x="353880" y="2389320"/>
            <a:chExt cx="9618840" cy="5468760"/>
          </a:xfrm>
        </p:grpSpPr>
        <p:pic>
          <p:nvPicPr>
            <p:cNvPr id="5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53880" y="2389320"/>
              <a:ext cx="9618840" cy="54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92200" y="2624040"/>
              <a:ext cx="9144000" cy="49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Writing Grades 11 – 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Write arguments to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suppor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claims in an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analysi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substantiv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opics or texts, using valid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easoning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and relevant and sufficient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evidenc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ntroduce precise, knowledgeable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laim(s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establish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he significance of the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laim(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distinguish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he claim(s) from alternate or opposing claims, and create an organization that logically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sequences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laim(s)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ounterclaim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eason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evidenc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use their research findings to clarify the opinions they will state in their editorials. Based on their revised opinion statements, students develop specific supporting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Keyword Insertion: Revised Tas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use their research findings to clarify the opinions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lai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unterclai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tate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tingu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ir editorials. Based on revised opinion statements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new re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tudents appl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nalysis to establish significance of a claim or counterclai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developing specific supporting arguments using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imary and secondary sour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’s chang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778040"/>
          <a:ext cx="10159920" cy="1209024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71136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efo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ft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11682000">
                <a:tc>
                  <a:txBody>
                    <a:bodyPr lIns="101520" rIns="101520" tIns="50760" bIns="5076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tudents use their research findings to clarify the opinions they will state in their editorials. Based on their revised opinion statements, students develop specific supporting arguments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s use their research findings to clarify the opinions,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laim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any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ounterclaim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state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distinguish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their editorials. Based on revised opinion statements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new research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students apply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nalysis to establish significance of a claim or counterclaim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developing specific supporting arguments using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evidenc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rom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primary and secondary source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920"/>
            <a:ext cx="9144000" cy="23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Common Core Standards Anchor Standard 1:</a:t>
            </a:r>
            <a:br>
              <a:rPr sz="3600"/>
            </a:b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Write arguments to support claims in an analysis of substantive topics or texts, using valid reasoning and relevant and sufficient evidence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7960" y="2963520"/>
            <a:ext cx="91440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velop claim(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unterclaim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rly and thoroughly, supplying the mo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relevant evi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ach while pointing out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imit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both in a manner tha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nticip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udience’s knowled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ncerns, val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possibl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i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 editorial writing, students identify types and potential sources of evidence that best support the opinions they plan to express in their editori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Keyword Insertion: Task Revise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 editorial writing, students identify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vel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ypes and potential sources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evidence, claims and counterclaim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best support the opinions they plan to express in their editorials. Students identif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engths and limit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lign with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udie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interest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nticipated bi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What’s chang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778040"/>
          <a:ext cx="10159920" cy="1056636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711000"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efo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ft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9855360">
                <a:tc>
                  <a:txBody>
                    <a:bodyPr lIns="101520" rIns="101520" tIns="50760" bIns="5076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hrough editorial writing, students identify types and potential sources of evidence that best support the opinions they plan to express in their editorials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101520" rIns="10152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 editorial writing, students identify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develop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ypes and potential sources of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evidence, claim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ounterclaims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at best support the opinions they plan to express in their editorials. Students identify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strengths and limitation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align with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udienc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 interest and </a:t>
                      </a:r>
                      <a:r>
                        <a:rPr b="0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nticipated biases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arguments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520" marR="1015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15:30Z</dcterms:created>
  <dc:creator>Google</dc:creator>
  <dc:description/>
  <dc:language>en-US</dc:language>
  <cp:lastModifiedBy>Your User Name</cp:lastModifiedBy>
  <dcterms:modified xsi:type="dcterms:W3CDTF">2011-06-03T23:01:35Z</dcterms:modified>
  <cp:revision>5</cp:revision>
  <dc:subject/>
  <dc:title>PowerPoint Presentation</dc:title>
</cp:coreProperties>
</file>