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1CFA-B679-4ED6-B28A-BEF4BEAC3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F780-1EDB-4048-A21F-CF0603E25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7ADF-331E-4A90-B35C-B04FA887D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95B5-43EE-4AA2-92E6-7C0E325B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093E-29CC-4995-A653-18186EF0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EE3B-D2F0-4B60-B47E-BEFDE514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BA9D-0C0D-4355-B389-076F2764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9733-0984-455B-AB4C-B96E306A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4B6A-B61B-4E34-B958-82309243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7781-956D-4DB7-B128-36E41F0B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1983-F461-413E-8572-115874DC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CCA8-0E2A-4549-8284-2F7CD47C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2475-D9AE-45BF-934A-DDD81F77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617B-FDD0-40BE-802A-C8BDE4A9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2764-CEF7-46A3-9800-339A11CF1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754360" y="1352520"/>
            <a:ext cx="5068800" cy="32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ndara"/>
              </a:rPr>
              <a:t>Keyword Insertion Activ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June 3, 201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Let’s Try It!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Choose a standard in a grade-le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Write a task that teaches to that standard, using something already in your curricul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Highlight or underline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key word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stand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Re-write the task adding in the highlighted key words from the standard to the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Discuss how the task chang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" descr="C:\Documents and Settings\Teaching Matters Inc\Local Settings\Temporary Internet Files\Content.IE5\Y4TIZTX0\MC900057374[1].wmf"/>
          <p:cNvPicPr/>
          <p:nvPr/>
        </p:nvPicPr>
        <p:blipFill>
          <a:blip r:embed="rId1"/>
          <a:stretch/>
        </p:blipFill>
        <p:spPr>
          <a:xfrm>
            <a:off x="7620120" y="423720"/>
            <a:ext cx="176040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Common Core Standards Anchor Standard 1:</a:t>
            </a:r>
            <a:br>
              <a:rPr sz="3600"/>
            </a:br>
            <a:r>
              <a:rPr b="0" lang="en-US" sz="3600" spc="-1" strike="noStrike">
                <a:solidFill>
                  <a:srgbClr val="808000"/>
                </a:solidFill>
                <a:latin typeface="Times New Roman"/>
              </a:rPr>
              <a:t>Write arguments to support claims in an analysis of substantive topics or texts, using valid reasoning and relevant and sufficient evidence.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50" name="Content Placeholder 2"/>
          <p:cNvGrpSpPr/>
          <p:nvPr/>
        </p:nvGrpSpPr>
        <p:grpSpPr>
          <a:xfrm>
            <a:off x="353880" y="2389320"/>
            <a:ext cx="9618840" cy="5468760"/>
            <a:chOff x="353880" y="2389320"/>
            <a:chExt cx="9618840" cy="5468760"/>
          </a:xfrm>
        </p:grpSpPr>
        <p:pic>
          <p:nvPicPr>
            <p:cNvPr id="51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353880" y="2389320"/>
              <a:ext cx="9618840" cy="546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92200" y="2624040"/>
              <a:ext cx="9144000" cy="49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Writing Grades 11 – 1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Write arguments to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suppor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claims in an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analysi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substantive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topics or texts, using valid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reasoning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and relevant and sufficient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evidence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ntroduce precise, knowledgeable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claim(s)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establish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the significance of the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claim(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distinguish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the claim(s) from alternate or opposing claims, and create an organization that logically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sequences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laim(s),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counterclaim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reason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and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evidence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Task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use their research findings to clarify the opinions they will state in their editorials. Based on their revised opinion statements, students develop specific supporting arg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Keyword Insertion: Revised Task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use their research findings to clarify the opinions,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lai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ny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ounterclai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state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istinguis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ir editorials. Based on revised opinion statements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new re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tudents apply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nalysis to establish significance of a claim or counterclai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developing specific supporting arguments using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evid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primary and secondary sour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What’s changed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778040"/>
          <a:ext cx="10159920" cy="12090240"/>
        </p:xfrm>
        <a:graphic>
          <a:graphicData uri="http://schemas.openxmlformats.org/drawingml/2006/table">
            <a:tbl>
              <a:tblPr/>
              <a:tblGrid>
                <a:gridCol w="5079960"/>
                <a:gridCol w="5079960"/>
              </a:tblGrid>
              <a:tr h="71136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efo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fte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11682000">
                <a:tc>
                  <a:txBody>
                    <a:bodyPr lIns="101520" rIns="101520" tIns="50760" bIns="5076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tudents use their research findings to clarify the opinions they will state in their editorials. Based on their revised opinion statements, students develop specific supporting arguments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ents use their research findings to clarify the opinions,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claims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nd any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counterclaims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o state and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distinguish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n their editorials. Based on revised opinion statements and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new research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students apply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analysis to establish significance of a claim or counterclaim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developing specific supporting arguments using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evidence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from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primary and secondary sources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7960" y="304920"/>
            <a:ext cx="9144000" cy="23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Common Core Standards Anchor Standard 1:</a:t>
            </a:r>
            <a:br>
              <a:rPr sz="3600"/>
            </a:br>
            <a:r>
              <a:rPr b="0" lang="en-US" sz="3600" spc="-1" strike="noStrike">
                <a:solidFill>
                  <a:srgbClr val="808000"/>
                </a:solidFill>
                <a:latin typeface="Times New Roman"/>
              </a:rPr>
              <a:t>Write arguments to support claims in an analysis of substantive topics or texts, using valid reasoning and relevant and sufficient evidence.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07960" y="2963520"/>
            <a:ext cx="91440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evelop claim(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ounterclaim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rly and thoroughly, supplying the mos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relevant evid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each while pointing out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trength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limit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both in a manner tha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nticip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udience’s knowledg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,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oncerns, val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possibl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bia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Task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ough editorial writing, students identify types and potential sources of evidence that best support the opinions they plan to express in their editori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Keyword Insertion: Task Revise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ough editorial writing, students identify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evel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ypes and potential sources of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evidence, claims and counterclaim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best support the opinions they plan to express in their editorials. Students identify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trengths and limit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align with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udie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interest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nticipated bia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rg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What’s changed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0" y="1778040"/>
          <a:ext cx="10159920" cy="10566360"/>
        </p:xfrm>
        <a:graphic>
          <a:graphicData uri="http://schemas.openxmlformats.org/drawingml/2006/table">
            <a:tbl>
              <a:tblPr/>
              <a:tblGrid>
                <a:gridCol w="5079960"/>
                <a:gridCol w="5079960"/>
              </a:tblGrid>
              <a:tr h="71100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efo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fte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9855360">
                <a:tc>
                  <a:txBody>
                    <a:bodyPr lIns="101520" rIns="101520" tIns="50760" bIns="5076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Through editorial writing, students identify types and potential sources of evidence that best support the opinions they plan to express in their editorials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rough editorial writing, students identify and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develop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ypes and potential sources of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evidence, claims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nd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counterclaims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at best support the opinions they plan to express in their editorials. Students identify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strengths and limitations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o align with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audienc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 interest and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anticipated biases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nd arguments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17:15:30Z</dcterms:created>
  <dc:creator>Google</dc:creator>
  <dc:description/>
  <dc:language>en-US</dc:language>
  <cp:lastModifiedBy>Your User Name</cp:lastModifiedBy>
  <dcterms:modified xsi:type="dcterms:W3CDTF">2011-06-03T23:01:35Z</dcterms:modified>
  <cp:revision>5</cp:revision>
  <dc:subject/>
  <dc:title>PowerPoint Presentation</dc:title>
</cp:coreProperties>
</file>