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749D-7B62-4CD3-8B94-DE151F010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4D3-A208-430D-A2E3-1F9727E83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63F-5D27-4749-8F01-F7F10762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FB3-060D-4D67-9C49-02512557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8EC-87E6-45BD-8070-5A0C9155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5C6-E4C6-4B3A-A0D2-B41C51BB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505-D104-43FD-9FC5-4881CE7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2DA-EAB5-4D0F-8EAC-EDBC3C6E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1E3-253F-46CD-A772-9114A0CE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5C5-EC36-4072-9CD7-AB0D0C6D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783-CE94-4B92-BFB8-95ECFE8A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A8C-BAF7-4D73-86C9-15C57B4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E90-998F-42B0-BD56-2269A1A6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2FD-BDEE-4A04-BA11-C6F68A6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53D-4467-42DD-8524-FDD12B140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352520"/>
            <a:ext cx="506880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Keyword Insertion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Try It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7620120" y="423720"/>
            <a:ext cx="176040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0" name="Content Placeholder 2"/>
          <p:cNvGrpSpPr/>
          <p:nvPr/>
        </p:nvGrpSpPr>
        <p:grpSpPr>
          <a:xfrm>
            <a:off x="353880" y="2389320"/>
            <a:ext cx="9618840" cy="5468760"/>
            <a:chOff x="353880" y="2389320"/>
            <a:chExt cx="9618840" cy="5468760"/>
          </a:xfrm>
        </p:grpSpPr>
        <p:pic>
          <p:nvPicPr>
            <p:cNvPr id="5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2389320"/>
              <a:ext cx="9618840" cy="54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92200" y="2624040"/>
              <a:ext cx="9144000" cy="49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riting Grades 11 – 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rite arguments to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ppor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claims in an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analysi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bstantiv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opics or texts, using vali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in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relevant and sufficient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ntroduce precise, knowledgeabl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stabl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significance of th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distingu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claim(s) from alternate or opposing claims, and create an organization that logically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equen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laim(s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ounterclaim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Revised 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778040"/>
          <a:ext cx="10159920" cy="1209024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3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168200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 use their research findings to clarify the opinions,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n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state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istinguis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eir editorials. Based on revised opinion statements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new researc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tudents appl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alysis to establish significance of a claim or counterclaim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developing specific supporting arguments using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om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primary and secondary sourc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920"/>
            <a:ext cx="9144000" cy="23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7960" y="2963520"/>
            <a:ext cx="91440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Task Revis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78040"/>
          <a:ext cx="10159920" cy="1056636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0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985536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 editorial writing, students identify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evelo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ypes and potential sources of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, 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best support the opinions they plan to express in their editorials. Students identif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strengths and limitation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align with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udienc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interest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ticipated bias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3:01:35Z</dcterms:modified>
  <cp:revision>5</cp:revision>
  <dc:subject/>
  <dc:title>PowerPoint Presentation</dc:title>
</cp:coreProperties>
</file>