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A46-2A58-4153-A9C8-F8D7F3BB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2DE-5425-4E7F-A470-FC13F5B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AF2-4D1D-4C70-ACD3-4EFB4B31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3A3-0E6C-401B-8FF4-3A6EDE5E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23B-C1BC-480D-BABB-8F2895C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7CC-426D-4695-A9B7-E0D8E32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832-F7DD-464B-8F31-459C570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0B8-23EC-42DC-8E54-40816DF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CA5-50BF-4A16-9246-E513004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7D0-CB9F-4A67-901E-0C5F2C9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F51-DF53-4C50-BF79-7AFBC56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DC8-C626-4BD7-B530-9B92473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C60-21DE-43E9-8468-0D5A3852B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y Word Insertion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ry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Content Placeholder 2"/>
          <p:cNvGrpSpPr/>
          <p:nvPr/>
        </p:nvGrpSpPr>
        <p:grpSpPr>
          <a:xfrm>
            <a:off x="298440" y="2127240"/>
            <a:ext cx="8705880" cy="4968720"/>
            <a:chOff x="298440" y="2127240"/>
            <a:chExt cx="8705880" cy="4968720"/>
          </a:xfrm>
        </p:grpSpPr>
        <p:pic>
          <p:nvPicPr>
            <p:cNvPr id="4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98440" y="2127240"/>
              <a:ext cx="870588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3520" y="2362320"/>
              <a:ext cx="82296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Writing Grades 11 – 1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Write arguments to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pport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claims in an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analysi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ubstantiv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opics or texts, using vali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ing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and relevant and sufficient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Introduce precise, knowledgeabl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)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stabl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significance of the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laim(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distinguish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 the claim(s) from alternate or opposing claims, and create an organization that logically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sequences 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claim(s)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counterclaim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reasons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, and </a:t>
              </a:r>
              <a:r>
                <a:rPr b="0" lang="en-US" sz="3000" spc="-1" strike="noStrike" u="sng">
                  <a:solidFill>
                    <a:srgbClr val="ff0000"/>
                  </a:solidFill>
                  <a:uFillTx/>
                  <a:latin typeface="Calibri"/>
                </a:rPr>
                <a:t>evidence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Straight Connector 4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Revised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600200"/>
          <a:ext cx="9144000" cy="10880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066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use their research findings to clarify the opinions,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n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state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istinguis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their editorials. Based on revised opinion statements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new research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tudents appl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alysis to establish significance of a claim or counterclaim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le developing specific supporting arguments using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rom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primary and secondary sourc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Core Standards Anchor Standard 1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rguments to support claims in an analysis of substantive topics or texts, using valid reasoning and relevant and sufficient evi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04920" y="2514600"/>
            <a:ext cx="8381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word Insertion: Task Revi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chang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950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f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2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ugh editorial writing, students identify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develop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ypes and potential sources of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vidence, claim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ounterclaims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t best support the opinions they plan to express in their editorials. Students identify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strengths and limitation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align with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udien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interest and </a:t>
                      </a:r>
                      <a:r>
                        <a:rPr b="0" lang="en-US" sz="36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anticipated biases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argument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9:00:40Z</dcterms:created>
  <dc:creator>Your User Name</dc:creator>
  <dc:description/>
  <dc:language>en-US</dc:language>
  <cp:lastModifiedBy>Your User Name</cp:lastModifiedBy>
  <dcterms:modified xsi:type="dcterms:W3CDTF">2011-06-02T11:07:31Z</dcterms:modified>
  <cp:revision>11</cp:revision>
  <dc:subject/>
  <dc:title>Slide 1</dc:title>
</cp:coreProperties>
</file>