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E78-2FFF-4695-B751-20B139C4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6DA-1888-439D-B3CF-55AE69AF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6C1-7257-4AEB-998D-F480FE0B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84F-F589-4EAA-A102-23F92ED7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785-BFA1-49B6-998F-2FFD70C4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3AE-8C1F-4A2B-82F1-3F402984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C16-E112-4E17-84E5-D24DCCA1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81E-0F5F-4ACE-81FE-D5F5BBEB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FD1-DEFB-46FA-B73D-8F2EC041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1FD-3F4F-4FD6-911E-DE0B48A2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126-5CC3-4E45-B92A-43D07BD2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34E5-086C-4EB9-A6E2-B733EB7F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49A1-BA65-4F57-A0CD-D0B37EB7F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ey Word Insertion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Try I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hoose a standard in a grade-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rite a task that teaches to that standard, using something already in your curricul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ighlight or underline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key word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stand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Re-write the task adding in the highlighted key words from the standard to the ta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Discuss how the task chang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Teaching Matters Inc\Local Settings\Temporary Internet Files\Content.IE5\Y4TIZTX0\MC900057374[1].wmf"/>
          <p:cNvPicPr/>
          <p:nvPr/>
        </p:nvPicPr>
        <p:blipFill>
          <a:blip r:embed="rId1"/>
          <a:stretch/>
        </p:blipFill>
        <p:spPr>
          <a:xfrm>
            <a:off x="6858000" y="380880"/>
            <a:ext cx="15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on Core Standards Anchor Standard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rguments to support claims in an analysis of substantive topics or texts, using valid reasoning and relevant and sufficient evid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Content Placeholder 2"/>
          <p:cNvGrpSpPr/>
          <p:nvPr/>
        </p:nvGrpSpPr>
        <p:grpSpPr>
          <a:xfrm>
            <a:off x="298440" y="2127240"/>
            <a:ext cx="8705880" cy="4968720"/>
            <a:chOff x="298440" y="2127240"/>
            <a:chExt cx="8705880" cy="4968720"/>
          </a:xfrm>
        </p:grpSpPr>
        <p:pic>
          <p:nvPicPr>
            <p:cNvPr id="4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98440" y="2127240"/>
              <a:ext cx="8705880" cy="49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33520" y="2362320"/>
              <a:ext cx="822960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</a:rPr>
                <a:t>Writing Grades 11 – 12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Write arguments to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support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claims in an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analysis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of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substantive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topics or texts, using valid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reasoning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and relevant and sufficient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evidence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Introduce precise, knowledgeable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claim(s)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establish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the significance of the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claim(s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),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distinguish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the claim(s) from alternate or opposing claims, and create an organization that logically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sequences 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claim(s),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counterclaims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reasons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, and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evidence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Straight Connector 4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use their research findings to clarify the opinions they will state in their editorials. Based on their revised opinion statements, students develop specific supporting argu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word Insertion: Revised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use their research findings to clarify the opinions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lai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n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unterclai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tate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istinguis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ir editorials. Based on revised opinion statements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new resear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tudents appl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alysis to establish significance of a claim or counterclai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developing specific supporting arguments using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vid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primary and secondary sour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chang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600200"/>
          <a:ext cx="9144000" cy="108806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f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0667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 use their research findings to clarify the opinions they will state in their editorials. Based on their revised opinion statements, students develop specific supporting argument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 use their research findings to clarify the opinions,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laim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any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ounterclaim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state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distinguis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their editorials. Based on revised opinion statements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new researc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students apply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nalysis to establish significance of a claim or counterclaim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le developing specific supporting arguments using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videnc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rom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primary and secondary source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on Core Standards Anchor Standard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rguments to support claims in an analysis of substantive topics or texts, using valid reasoning and relevant and sufficient evid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6668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evelop claim(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unterclai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rly and thoroughly, supplying the mos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relevant evid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each while pointing out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strength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limit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both in a manner tha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ticipa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udience’s knowled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ncerns, valu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possibl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bia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4"/>
          <p:cNvSpPr/>
          <p:nvPr/>
        </p:nvSpPr>
        <p:spPr>
          <a:xfrm>
            <a:off x="304920" y="2514600"/>
            <a:ext cx="8381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editorial writing, students identify types and potential sources of evidence that best support the opinions they plan to express in their editori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word Insertion: Task Revi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editorial writing, students identify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evelo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ypes and potential sources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vidence, claims and counterclai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best support the opinions they plan to express in their editorials. Students identif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strengths and limit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align with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udien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interest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ticipated bia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rgu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chang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600200"/>
          <a:ext cx="9144000" cy="9509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f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722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rough editorial writing, students identify types and potential sources of evidence that best support the opinions they plan to express in their editorial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rough editorial writing, students identify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develop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ypes and potential sources of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vidence, claim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ounterclaims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at best support the opinions they plan to express in their editorials. Students identify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strengths and limitation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align with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udienc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 interest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nticipated biase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argument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9:00:40Z</dcterms:created>
  <dc:creator>Your User Name</dc:creator>
  <dc:description/>
  <dc:language>en-US</dc:language>
  <cp:lastModifiedBy>Your User Name</cp:lastModifiedBy>
  <dcterms:modified xsi:type="dcterms:W3CDTF">2011-06-02T11:07:31Z</dcterms:modified>
  <cp:revision>11</cp:revision>
  <dc:subject/>
  <dc:title>Slide 1</dc:title>
</cp:coreProperties>
</file>