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1B6-F23D-415F-B3A1-EB998942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D29-7C35-493F-AD56-446CAE2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A67-BB6D-43E0-82F5-ADDA123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846-2F09-438A-B913-337A1591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BDC-FAB4-4122-8C71-D80ABD0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864-2951-411C-9833-2DAECEED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E57-F157-4C45-ABDF-3F1F5FD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309-F280-4626-BF12-F506876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BDC-8DB6-4198-ABAA-30799CA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B29-BAC1-40B7-BAEA-7DC2759A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5E6-253C-4CD3-9FB7-19A4EB8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4D8-8F33-47C7-A7CD-820E816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429-9436-4CFE-AFAF-1813D1D58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y Word Insertion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ry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Content Placeholder 2"/>
          <p:cNvGrpSpPr/>
          <p:nvPr/>
        </p:nvGrpSpPr>
        <p:grpSpPr>
          <a:xfrm>
            <a:off x="298440" y="2127240"/>
            <a:ext cx="8705880" cy="4968720"/>
            <a:chOff x="298440" y="2127240"/>
            <a:chExt cx="8705880" cy="4968720"/>
          </a:xfrm>
        </p:grpSpPr>
        <p:pic>
          <p:nvPicPr>
            <p:cNvPr id="4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98440" y="2127240"/>
              <a:ext cx="870588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3520" y="2362320"/>
              <a:ext cx="82296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Writing Grades 11 – 1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rite arguments to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pport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claims in an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analysi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bstantiv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opics or texts, using vali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ing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and relevant and sufficient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Introduce precise, knowledgeabl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)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stabl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significance of th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distingu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claim(s) from alternate or opposing claims, and create an organization that logically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equences 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claim(s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ounterclaim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an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Straight Connector 4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Revised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600200"/>
          <a:ext cx="9144000" cy="10880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66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,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n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state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istingui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their editorials. Based on revised opinion statements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new resear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tudents appl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alysis to establish significance of a claim or counterclai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developing specific supporting arguments using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om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primary and secondary sourc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04920" y="2514600"/>
            <a:ext cx="838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Task Revi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950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2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evelo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ypes and potential sources of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, 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t best support the opinions they plan to express in their editorials. Students identif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strengths and limitation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align with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udien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interest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ticipated bias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9:00:40Z</dcterms:created>
  <dc:creator>Your User Name</dc:creator>
  <dc:description/>
  <dc:language>en-US</dc:language>
  <cp:lastModifiedBy>Your User Name</cp:lastModifiedBy>
  <dcterms:modified xsi:type="dcterms:W3CDTF">2011-06-02T11:07:31Z</dcterms:modified>
  <cp:revision>11</cp:revision>
  <dc:subject/>
  <dc:title>Slide 1</dc:title>
</cp:coreProperties>
</file>