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059-42AF-4EB1-8E5F-B7ABE6A2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78C-1781-4AA5-B96D-68ABAAA0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AF1-BA07-443C-A68F-8892004B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F22-9284-4555-B82D-DCE62DBE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974-FE6C-42E1-BF6E-A4B65E25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485-815A-4D18-82C2-8A9DF3B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02C-B683-476B-A8D6-52E4C757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763-7A78-4B0A-ADB3-C1952DE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F3E-C808-417F-B616-9F3D3FD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529-57CB-4C2F-8596-FB31AED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9C9-3111-47AD-AE1B-567F650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099-801C-4E95-ADF0-59C7CC1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476-C2B3-42C8-A8D6-50AAA213D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y Word Insertion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ry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Content Placeholder 2"/>
          <p:cNvGrpSpPr/>
          <p:nvPr/>
        </p:nvGrpSpPr>
        <p:grpSpPr>
          <a:xfrm>
            <a:off x="298440" y="2127240"/>
            <a:ext cx="8705880" cy="4968720"/>
            <a:chOff x="298440" y="2127240"/>
            <a:chExt cx="8705880" cy="4968720"/>
          </a:xfrm>
        </p:grpSpPr>
        <p:pic>
          <p:nvPicPr>
            <p:cNvPr id="4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98440" y="2127240"/>
              <a:ext cx="870588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3520" y="2362320"/>
              <a:ext cx="82296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Writing Grades 11 – 1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rite arguments to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pport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claims in an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analysi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bstantiv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opics or texts, using vali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ing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and relevant and sufficient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Introduce precise, knowledgeabl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)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stabl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significance of th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distingu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claim(s) from alternate or opposing claims, and create an organization that logically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equences 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claim(s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ounterclaim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an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Straight Connector 4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Revised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600200"/>
          <a:ext cx="9144000" cy="10880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66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,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n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state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istingui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their editorials. Based on revised opinion statements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new resear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tudents appl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alysis to establish significance of a claim or counterclai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developing specific supporting arguments using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om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primary and secondary sourc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04920" y="2514600"/>
            <a:ext cx="838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Task Revi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950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2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evelo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ypes and potential sources of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, 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t best support the opinions they plan to express in their editorials. Students identif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strengths and limitation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align with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udien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interest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ticipated bias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9:00:40Z</dcterms:created>
  <dc:creator>Your User Name</dc:creator>
  <dc:description/>
  <dc:language>en-US</dc:language>
  <cp:lastModifiedBy>Your User Name</cp:lastModifiedBy>
  <dcterms:modified xsi:type="dcterms:W3CDTF">2011-06-02T11:07:31Z</dcterms:modified>
  <cp:revision>11</cp:revision>
  <dc:subject/>
  <dc:title>Slide 1</dc:title>
</cp:coreProperties>
</file>