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56E4-EA76-45C4-9783-4FA1F0286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5831-2814-4D36-BD25-FFC0B4207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B593-F7F4-4911-AEA3-720149AD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B94D-EC81-4A21-8DF6-F8C0E09F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0B60-6550-436F-B451-21CE79E5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406-E447-424D-8D46-A69C95F7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82F-E64F-49BD-82CB-2F8ECE59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D0F4-AEFD-4AE9-83B5-553846C8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CFD2-1193-42C3-BE69-6FCB270D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F65-5B27-4BF2-BB63-28F7CAA5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330-6351-44EF-88A6-578EB89E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6F0-0B23-464A-81F9-DB49BAB3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9FB-93A9-4B90-BA8F-03E4C4A4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921-327C-47CA-9A37-426EF46D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B9C6-2CE1-40CD-9398-311E4D877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jessamine.k12.ky.us/" TargetMode="External"/><Relationship Id="rId2" Type="http://schemas.openxmlformats.org/officeDocument/2006/relationships/hyperlink" Target="http://www.sddial.k12.sd.us/esa/doc/staff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754360" y="1699560"/>
            <a:ext cx="50688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ndara"/>
              </a:rPr>
              <a:t>Curriculum Mapping 1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June 3, 20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7326"/>
                </a:solidFill>
                <a:latin typeface="Times New Roman"/>
              </a:rPr>
              <a:t>Phases of the Mapping Process:</a:t>
            </a:r>
            <a:br>
              <a:rPr sz="4000"/>
            </a:br>
            <a:r>
              <a:rPr b="1" lang="en-US" sz="4000" spc="-1" strike="noStrike">
                <a:solidFill>
                  <a:srgbClr val="808000"/>
                </a:solidFill>
                <a:latin typeface="Times New Roman"/>
              </a:rPr>
              <a:t>Phase 1: Collecting the Dat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teacher describes three major elements of the curriculum to inclu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uthentic classroom data about student experiences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ntent in terms of essential concepts and topics and as essential questions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ducts and performances that are the assessments of learning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ighly specific information about daily lesson plans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re not need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hase 2:  The First Read-Through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ch teacher edits the map reading (non-judgmentally) to gain information about what is taught across the curriculu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derline content, skills and assessment areas that are new to them or that they have questions 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hase 3:  Mixed Group Revie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ach teacher shares findings from individual reviews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o decisions, no judgment: simply state areas where information was gained, gaps, repetitions, areas for integration or any mismatches between outcomes and curriculum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-flag areas for attention but DO NOT re-writ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hase 4:  Large Group Revie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 fa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are gathered into a chart to encompass all small group reporting sessions (Phases 2 and 3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ay judgment: simply compile dat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Times New Roman"/>
              </a:rPr>
              <a:t>Phase 5:  Determine what can be revised immediately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ke collaborative decisions and concessions where n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Times New Roman"/>
              </a:rPr>
              <a:t>Phase 6:  Determine points that require long-term research and development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ps in cont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ps in assessments between elementary and middle/middle and hig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affolding gap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re gaps or repet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eduling conflic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Times New Roman"/>
              </a:rPr>
              <a:t>Phase 7: Continue the Review Cycl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tive and on-g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fin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ampl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Curriculum Templat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77880" y="2031840"/>
          <a:ext cx="8889840" cy="4996080"/>
        </p:xfrm>
        <a:graphic>
          <a:graphicData uri="http://schemas.openxmlformats.org/drawingml/2006/table">
            <a:tbl>
              <a:tblPr/>
              <a:tblGrid>
                <a:gridCol w="1601640"/>
                <a:gridCol w="1441440"/>
                <a:gridCol w="1401840"/>
                <a:gridCol w="1322280"/>
                <a:gridCol w="1640160"/>
                <a:gridCol w="1482480"/>
              </a:tblGrid>
              <a:tr h="84312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Curriculum Map Templat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77880" y="2031840"/>
          <a:ext cx="8889840" cy="4996080"/>
        </p:xfrm>
        <a:graphic>
          <a:graphicData uri="http://schemas.openxmlformats.org/drawingml/2006/table">
            <a:tbl>
              <a:tblPr/>
              <a:tblGrid>
                <a:gridCol w="1601640"/>
                <a:gridCol w="1441440"/>
                <a:gridCol w="1401840"/>
                <a:gridCol w="1322280"/>
                <a:gridCol w="1640160"/>
                <a:gridCol w="1482480"/>
              </a:tblGrid>
              <a:tr h="84312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at is Curriculum Mapping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rriculum mapping is a multifaceted, on-going process designed to improve student learning.  All curricular decisions are data-driven and in the students’ best interest (Hayes-Jacobs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apping the Big Picture: Integrating Curriculum and Assessment K-1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1997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Let’s Map!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1:  Write in the dat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2: First read: review the data individual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3:  Mixed group re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4: Large group re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5:  Determine revis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6:  Determine points that require long-term research and developmen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www.jessamine.k12.ky.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www.sddial.k12.sd.us/esa/doc/staff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es-Jacobs, H. 1997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pping the big picture: Integrating curriculum and assess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Alexandria, VA: Association for Supervision and Curriculum Develop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3380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y Map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s trace the students’ journey throughout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iculum across all content areas can be seen and analyzed glob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s can see what their colleagues do and te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to align curriculum to stand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ed additions or deletions can be easily determ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y Map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al gaps and repetitions can be easily spot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is increa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s can align content with skills, standards and assess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data-driven instruction and decision-ma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y Map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7960" y="1778040"/>
            <a:ext cx="914400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riven by essential questions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Flight: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 What flies?  How and why do things in nature fly?  What is the future of flight?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Intelligence: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 What is intelligence?  How has intelligence evolved?  How is intelligence measured?  Is intelligence solely a human phenomenon?  How will intelligence be altered?  (Hayes-Jacobs, 199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vigators use maps to chart a course. Although unforeseen  events and variables may affect their journey, they begin by making important choices about their route to avoid a meandering, rudderless voyage.  In similar fashion, teachers must make critical choices as they plot a course for their learners.  Essential questions are an exceptional tool for clearly and precisely communicating the pivotal points of the curriculum” (Hayes-Jacobs, 1997, p. 2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urriculum Mapping Vocabular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s and Sub-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Non-negotiables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and Performance Indic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Negotiables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ssessm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7:15:30Z</dcterms:created>
  <dc:creator>Google</dc:creator>
  <dc:description/>
  <dc:language>en-US</dc:language>
  <cp:lastModifiedBy>Your User Name</cp:lastModifiedBy>
  <dcterms:modified xsi:type="dcterms:W3CDTF">2011-06-03T22:58:35Z</dcterms:modified>
  <cp:revision>3</cp:revision>
  <dc:subject/>
  <dc:title>PowerPoint Presentation</dc:title>
</cp:coreProperties>
</file>