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2BDE-F289-4262-A63A-FC6D8686A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CBA-8795-48A5-B7C7-41C0EF3E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2CC-3DE8-4CF5-B56F-73FC33A6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26D-2CB4-4293-B893-7B6FE55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B2F-B169-44C5-B4FE-D33CFC85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1D8-3C15-4502-A8AB-E5D88DA2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9B4-E118-4590-9BD3-E72C0DBC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A21-6539-401E-8401-6D0E26E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610-BA88-4A32-BD66-46D4100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532-FD92-4015-9739-03FAEBD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400-31AB-474D-8B7D-01F19069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BE1-7426-40CB-BADC-75A4C6E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9F2-8393-4168-B7DF-3C87CC7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683-BDFC-4169-90DB-03C555D4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CAD2-5EDA-40BA-B579-EF200BF18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essamine.k12.ky.us/" TargetMode="External"/><Relationship Id="rId2" Type="http://schemas.openxmlformats.org/officeDocument/2006/relationships/hyperlink" Target="http://www.sddial.k12.sd.us/esa/doc/staff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699560"/>
            <a:ext cx="50688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Curriculum Mapping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7326"/>
                </a:solidFill>
                <a:latin typeface="Times New Roman"/>
              </a:rPr>
              <a:t>Phases of the Mapping Process:</a:t>
            </a:r>
            <a:br>
              <a:rPr sz="4000"/>
            </a:b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1: Collecting the Dat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eacher describes three major elements of the curriculum to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uthentic classroom data about student experience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ent in terms of essential concepts and topics and as essential questions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ducts and performances that are the assessments of learning;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ighly specific information about daily lesson plan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re not need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2:  The First Read-Throug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ch teacher edits the map reading (non-judgmentally) to gain information about what is taught across the curricul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line content, skills and assessment areas that are new to them or that they have question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3:  Mixed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ach teacher shares findings from individual review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 decisions, no judgment: simply state areas where information was gained, gaps, repetitions, areas for integration or any mismatches between outcomes and curriculum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-flag areas for attention but DO NOT re-writ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ase 4:  Large Group Revie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fa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are gathered into a chart to encompass all small group reporting sessions (Phases 2 and 3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ay judgment: simply compile d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5:  Determine what can be revised immediately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llaborative decisions and concessions where n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cont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ps in assessments between elementary and middle/middle and hig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affolding ga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re gaps or repet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duling confli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</a:rPr>
              <a:t>Phase 7: Continue the Review Cycl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ive and on-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amp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Curriculum Map Templa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77880" y="2031840"/>
          <a:ext cx="8889840" cy="4996080"/>
        </p:xfrm>
        <a:graphic>
          <a:graphicData uri="http://schemas.openxmlformats.org/drawingml/2006/table">
            <a:tbl>
              <a:tblPr/>
              <a:tblGrid>
                <a:gridCol w="1601640"/>
                <a:gridCol w="1441440"/>
                <a:gridCol w="1401840"/>
                <a:gridCol w="1322280"/>
                <a:gridCol w="1640160"/>
                <a:gridCol w="1482480"/>
              </a:tblGrid>
              <a:tr h="843120"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sential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u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er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 is Curriculum Mapping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iculum mapping is a multifaceted, on-going process designed to improve student learning.  All curricular decisions are data-driven and in the students’ best interest (Hayes-Jacobs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 K-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1997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Map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1:  Write in the dat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2: First read: review the data individual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3:  Mixed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4: Large group re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5:  Determine revis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hase 6:  Determine points that require long-term research and develop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www.jessamine.k12.ky.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www.sddial.k12.sd.us/esa/doc/staff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RIEVED 5/31/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es-Jacobs, H. 1997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pping the big picture: Integrating curriculum and assess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lexandria, VA: Association for Supervision and Curriculum Develop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380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trace the students’ journey throughou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across all content areas can be seen and analyzed glob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see what their colleagues do and te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lign curriculum to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additions or deletions can be easily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gaps and repetitions can be easily spo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 in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s can align content with skills, standards and assess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data-driven instruction and decision-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y Map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1778040"/>
            <a:ext cx="914400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iven by essential questions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Flight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flies?  How and why do things in nature fly?  What is the future of flight?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Intelligence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What is intelligence?  How has intelligence evolved?  How is intelligence measured?  Is intelligence solely a human phenomenon?  How will intelligence be altered?  (Hayes-Jacobs, 199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ors use maps to chart a course. Although unforeseen  events and variables may affect their journey, they begin by making important choices about their route to avoid a meandering, rudderless voyage.  In similar fashion, teachers must make critical choices as they plot a course for their learners.  Essential questions are an exceptional tool for clearly and precisely communicating the pivotal points of the curriculum” (Hayes-Jacobs, 1997, p. 2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urriculum Mapping Vocabula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 and Sub-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on-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and Performance Ind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Negotiables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ss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2:58:35Z</dcterms:modified>
  <cp:revision>3</cp:revision>
  <dc:subject/>
  <dc:title>PowerPoint Presentation</dc:title>
</cp:coreProperties>
</file>