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B236-D464-419F-94F7-091FD7094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B5B6-9769-457A-ADA8-34212C0DB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2289-2FA6-46EB-B81E-B3884483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2185-0F35-43D3-B3B8-E67F6F5A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4FFD-A891-4FC0-AF91-205B7E0A0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0CDB-F261-425F-BF12-911A724C5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9658-5E03-4B8B-83A7-FB620CB0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F7C5-E246-4AE7-8F0E-F15083FB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498B-CCE2-471D-BF26-48504599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1A54-6AE8-41A9-BC0F-7ED7B147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5206-3D87-4B3F-8E6C-F0E953DB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2A68-0D96-4FB5-B908-D56E0486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31EA-CF8B-4DE8-B614-D7018638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93E0-D5F9-487F-9E6B-F3B628A6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B2E6-EF8C-444D-937F-D4CDE7533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jessamine.k12.ky.us/" TargetMode="External"/><Relationship Id="rId2" Type="http://schemas.openxmlformats.org/officeDocument/2006/relationships/hyperlink" Target="http://www.sddial.k12.sd.us/esa/doc/staff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754360" y="1699560"/>
            <a:ext cx="506880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ndara"/>
              </a:rPr>
              <a:t>Curriculum Mapping 10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June 3, 201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7326"/>
                </a:solidFill>
                <a:latin typeface="Times New Roman"/>
              </a:rPr>
              <a:t>Phases of the Mapping Process:</a:t>
            </a:r>
            <a:br>
              <a:rPr sz="4000"/>
            </a:br>
            <a:r>
              <a:rPr b="1" lang="en-US" sz="4000" spc="-1" strike="noStrike">
                <a:solidFill>
                  <a:srgbClr val="808000"/>
                </a:solidFill>
                <a:latin typeface="Times New Roman"/>
              </a:rPr>
              <a:t>Phase 1: Collecting the Data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teacher describes three major elements of the curriculum to includ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uthentic classroom data about student experiences;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ontent in terms of essential concepts and topics and as essential questions;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oducts and performances that are the assessments of learning;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Highly specific information about daily lesson plans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re not need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Phase 2:  The First Read-Through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ch teacher edits the map reading (non-judgmentally) to gain information about what is taught across the curriculu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derline content, skills and assessment areas that are new to them or that they have questions 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Phase 3:  Mixed Group Review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Each teacher shares findings from individual reviews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No decisions, no judgment: simply state areas where information was gained, gaps, repetitions, areas for integration or any mismatches between outcomes and curriculum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Red-flag areas for attention but DO NOT re-writ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Phase 4:  Large Group Review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l fa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are gathered into a chart to encompass all small group reporting sessions (Phases 2 and 3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lay judgment: simply compile dat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00"/>
                </a:solidFill>
                <a:latin typeface="Times New Roman"/>
              </a:rPr>
              <a:t>Phase 5:  Determine what can be revised immediately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ke collaborative decisions and concessions where nee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00"/>
                </a:solidFill>
                <a:latin typeface="Times New Roman"/>
              </a:rPr>
              <a:t>Phase 6:  Determine points that require long-term research and development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-268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aps in cont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aps in assessments between elementary and middle/middle and hig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affolding gap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nre gaps or repeti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heduling conflic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00"/>
                </a:solidFill>
                <a:latin typeface="Times New Roman"/>
              </a:rPr>
              <a:t>Phase 7: Continue the Review Cycl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tive and on-g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fin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Sampl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ahoma"/>
              </a:rPr>
              <a:t>Curriculum Templat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77880" y="2031840"/>
          <a:ext cx="8889840" cy="4996080"/>
        </p:xfrm>
        <a:graphic>
          <a:graphicData uri="http://schemas.openxmlformats.org/drawingml/2006/table">
            <a:tbl>
              <a:tblPr/>
              <a:tblGrid>
                <a:gridCol w="1601640"/>
                <a:gridCol w="1441440"/>
                <a:gridCol w="1401840"/>
                <a:gridCol w="1322280"/>
                <a:gridCol w="1640160"/>
                <a:gridCol w="1482480"/>
              </a:tblGrid>
              <a:tr h="843120"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sential Ques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ou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i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ver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76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o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u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ahoma"/>
              </a:rPr>
              <a:t>Curriculum Map Templat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77880" y="2031840"/>
          <a:ext cx="8889840" cy="4996080"/>
        </p:xfrm>
        <a:graphic>
          <a:graphicData uri="http://schemas.openxmlformats.org/drawingml/2006/table">
            <a:tbl>
              <a:tblPr/>
              <a:tblGrid>
                <a:gridCol w="1601640"/>
                <a:gridCol w="1441440"/>
                <a:gridCol w="1401840"/>
                <a:gridCol w="1322280"/>
                <a:gridCol w="1640160"/>
                <a:gridCol w="1482480"/>
              </a:tblGrid>
              <a:tr h="843120"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sential Ques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ou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i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ver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bru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76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What is Curriculum Mapping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rriculum mapping is a multifaceted, on-going process designed to improve student learning.  All curricular decisions are data-driven and in the students’ best interest (Hayes-Jacobs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Mapping the Big Picture: Integrating Curriculum and Assessment K-1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1997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Let’s Map!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hase 1:  Write in the dat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hase 2: First read: review the data individuall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hase 3:  Mixed group re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hase 4: Large group re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hase 5:  Determine revis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hase 6:  Determine points that require long-term research and developmen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www.jessamine.k12.ky.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TRIEVED 5/31/2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www.sddial.k12.sd.us/esa/doc/staff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TRIEVED 5/31/2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yes-Jacobs, H. 1997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pping the big picture: Integrating curriculum and assess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Alexandria, VA: Association for Supervision and Curriculum Develop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7960" y="3380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Why Map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s trace the students’ journey throughout th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iculum across all content areas can be seen and analyzed glob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chers can see what their colleagues do and te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ier to align curriculum to stand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ed additions or deletions can be easily determ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Why Map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ctional gaps and repetitions can be easily spot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is increa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chers can align content with skills, standards and assess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data-driven instruction and decision-ma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Why Map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07960" y="1778040"/>
            <a:ext cx="9144000" cy="55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riven by essential questions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Flight: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 What flies?  How and why do things in nature fly?  What is the future of flight?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Intelligence: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 What is intelligence?  How has intelligence evolved?  How is intelligence measured?  Is intelligence solely a human phenomenon?  How will intelligence be altered?  (Hayes-Jacobs, 199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vigators use maps to chart a course. Although unforeseen  events and variables may affect their journey, they begin by making important choices about their route to avoid a meandering, rudderless voyage.  In similar fashion, teachers must make critical choices as they plot a course for their learners.  Essential questions are an exceptional tool for clearly and precisely communicating the pivotal points of the curriculum” (Hayes-Jacobs, 1997, p. 2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urriculum Mapping Vocabular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sential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s and Sub-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Non-negotiables: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N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sential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k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s and Performance Indic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Negotiables: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ssessmen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ctiviti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esson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17:15:30Z</dcterms:created>
  <dc:creator>Google</dc:creator>
  <dc:description/>
  <dc:language>en-US</dc:language>
  <cp:lastModifiedBy>Your User Name</cp:lastModifiedBy>
  <dcterms:modified xsi:type="dcterms:W3CDTF">2011-06-03T22:58:35Z</dcterms:modified>
  <cp:revision>3</cp:revision>
  <dc:subject/>
  <dc:title>PowerPoint Presentation</dc:title>
</cp:coreProperties>
</file>