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3CCC9-9851-4AAE-8C75-009B173919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C41F5-B2A0-4A3B-B132-6ED497A8C7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C02F-A92B-491A-85FB-3D44F0D0C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6427-E7F1-4CE5-81B3-4F781FD61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8A5B-70A4-4C10-A965-EA2BF9C40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195E-85F0-435C-91EA-BB421D3F1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1588-1150-4571-AFD8-57B6ED803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866F-3F6F-4A86-BCEF-73A836852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FF84-4B2B-4D3F-A585-C62D3F9F4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64FE-E5D3-40F2-9878-23616E243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DEAB-CA70-46BA-907D-506586E53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A665-629C-4538-984C-B38B5EA1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B9EA-801B-4900-BC1A-763A9283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F8FC-8BFE-4F6C-AEA5-75988964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E51C1-54E2-431A-96D6-810B2D521B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jessamine.k12.ky.us/" TargetMode="External"/><Relationship Id="rId2" Type="http://schemas.openxmlformats.org/officeDocument/2006/relationships/hyperlink" Target="http://www.sddial.k12.sd.us/esa/doc/staff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2754360" y="1699560"/>
            <a:ext cx="506880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ndara"/>
              </a:rPr>
              <a:t>Curriculum Mapping 10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June 3, 201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67326"/>
                </a:solidFill>
                <a:latin typeface="Times New Roman"/>
              </a:rPr>
              <a:t>Phases of the Mapping Process:</a:t>
            </a:r>
            <a:br>
              <a:rPr sz="4000"/>
            </a:br>
            <a:r>
              <a:rPr b="1" lang="en-US" sz="4000" spc="-1" strike="noStrike">
                <a:solidFill>
                  <a:srgbClr val="808000"/>
                </a:solidFill>
                <a:latin typeface="Times New Roman"/>
              </a:rPr>
              <a:t>Phase 1: Collecting the Data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ach teacher describes three major elements of the curriculum to includ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uthentic classroom data about student experiences;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ontent in terms of essential concepts and topics and as essential questions;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Products and performances that are the assessments of learning;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Highly specific information about daily lesson plans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are not needed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Phase 2:  The First Read-Through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ach teacher edits the map reading (non-judgmentally) to gain information about what is taught across the curriculu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nderline content, skills and assessment areas that are new to them or that they have questions 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Phase 3:  Mixed Group Review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Each teacher shares findings from individual reviews.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No decisions, no judgment: simply state areas where information was gained, gaps, repetitions, areas for integration or any mismatches between outcomes and curriculum.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Red-flag areas for attention but DO NOT re-writ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Phase 4:  Large Group Review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ll facul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are gathered into a chart to encompass all small group reporting sessions (Phases 2 and 3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lay judgment: simply compile dat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00"/>
                </a:solidFill>
                <a:latin typeface="Times New Roman"/>
              </a:rPr>
              <a:t>Phase 5:  Determine what can be revised immediately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ke collaborative decisions and concessions where need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00"/>
                </a:solidFill>
                <a:latin typeface="Times New Roman"/>
              </a:rPr>
              <a:t>Phase 6:  Determine points that require long-term research and development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698400" indent="-2685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aps in conten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aps in assessments between elementary and middle/middle and high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caffolding gap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enre gaps or repeti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cheduling conflic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00"/>
                </a:solidFill>
                <a:latin typeface="Times New Roman"/>
              </a:rPr>
              <a:t>Phase 7: Continue the Review Cycle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tive and on-go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fin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Sample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ahoma"/>
              </a:rPr>
              <a:t>Curriculum Templat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677880" y="2031840"/>
          <a:ext cx="8889840" cy="4996080"/>
        </p:xfrm>
        <a:graphic>
          <a:graphicData uri="http://schemas.openxmlformats.org/drawingml/2006/table">
            <a:tbl>
              <a:tblPr/>
              <a:tblGrid>
                <a:gridCol w="1601640"/>
                <a:gridCol w="1441440"/>
                <a:gridCol w="1401840"/>
                <a:gridCol w="1322280"/>
                <a:gridCol w="1640160"/>
                <a:gridCol w="1482480"/>
              </a:tblGrid>
              <a:tr h="843120"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sential Ques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nou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il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ver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dar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6920"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pte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3760"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cto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600"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7280"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ce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u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ahoma"/>
              </a:rPr>
              <a:t>Curriculum Map Templat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77880" y="2031840"/>
          <a:ext cx="8889840" cy="4996080"/>
        </p:xfrm>
        <a:graphic>
          <a:graphicData uri="http://schemas.openxmlformats.org/drawingml/2006/table">
            <a:tbl>
              <a:tblPr/>
              <a:tblGrid>
                <a:gridCol w="1601640"/>
                <a:gridCol w="1441440"/>
                <a:gridCol w="1401840"/>
                <a:gridCol w="1322280"/>
                <a:gridCol w="1640160"/>
                <a:gridCol w="1482480"/>
              </a:tblGrid>
              <a:tr h="843120"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sential Ques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nou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il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ver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dar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6920"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bru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3760"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600"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r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7280"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What is Curriculum Mapping?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urriculum mapping is a multifaceted, on-going process designed to improve student learning.  All curricular decisions are data-driven and in the students’ best interest (Hayes-Jacobs,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Mapping the Big Picture: Integrating Curriculum and Assessment K-1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1997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Let’s Map!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hase 1:  Write in the data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hase 2: First read: review the data individually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hase 3:  Mixed group review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hase 4: Large group review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hase 5:  Determine revision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hase 6:  Determine points that require long-term research and developmen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Reference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Times New Roman"/>
                <a:hlinkClick r:id="rId1"/>
              </a:rPr>
              <a:t>www.jessamine.k12.ky.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TRIEVED 5/31/20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Times New Roman"/>
                <a:hlinkClick r:id="rId2"/>
              </a:rPr>
              <a:t>www.sddial.k12.sd.us/esa/doc/staff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TRIEVED 5/31/20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yes-Jacobs, H. 1997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pping the big picture: Integrating curriculum and assessm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Alexandria, VA: Association for Supervision and Curriculum Develop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7960" y="33804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Why Map?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Ms trace the students’ journey throughout the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iculum across all content areas can be seen and analyzed global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achers can see what their colleagues do and tea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ier to align curriculum to standa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ed additions or deletions can be easily determi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Why Map?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ructional gaps and repetitions can be easily spot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cation is increa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achers can align content with skills, standards and assess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s data-driven instruction and decision-mak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Why Map?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07960" y="1778040"/>
            <a:ext cx="9144000" cy="550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Driven by essential questions.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Times New Roman"/>
              </a:rPr>
              <a:t>Flight: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  What flies?  How and why do things in nature fly?  What is the future of flight?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Times New Roman"/>
              </a:rPr>
              <a:t>Intelligence: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  What is intelligence?  How has intelligence evolved?  How is intelligence measured?  Is intelligence solely a human phenomenon?  How will intelligence be altered?  (Hayes-Jacobs, 1997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vigators use maps to chart a course. Although unforeseen  events and variables may affect their journey, they begin by making important choices about their route to avoid a meandering, rudderless voyage.  In similar fashion, teachers must make critical choices as they plot a course for their learners.  Essential questions are an exceptional tool for clearly and precisely communicating the pivotal points of the curriculum” (Hayes-Jacobs, 1997, p. 25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urriculum Mapping Vocabulary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sential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ki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ess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ss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ts and Sub-Un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Non-negotiables: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t Na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sential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ki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ards and Performance Indic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Negotiables: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Assessment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Activiti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Lesson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7T17:15:30Z</dcterms:created>
  <dc:creator>Google</dc:creator>
  <dc:description/>
  <dc:language>en-US</dc:language>
  <cp:lastModifiedBy>Your User Name</cp:lastModifiedBy>
  <dcterms:modified xsi:type="dcterms:W3CDTF">2011-06-03T22:58:35Z</dcterms:modified>
  <cp:revision>3</cp:revision>
  <dc:subject/>
  <dc:title>PowerPoint Presentation</dc:title>
</cp:coreProperties>
</file>