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A29-7420-4102-A73B-3753334D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389-4CA5-4299-813B-E5A38137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2C4-18B9-4D15-845C-79693495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639-EADF-4A83-902F-C35128C9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4B3-40B3-4537-8E55-9F7A87CB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9B8-6020-4601-8681-C0052F95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4AC8-399B-41AA-BBCA-D49B8FC9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5AF-F19D-4A10-93C3-C03CC7F3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87E-6BC9-45F1-A31F-36646CAD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3FA-0606-4BA9-9E42-81AB8A15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E24-BE61-43FA-9A51-FFBC66D8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9BF-28F3-44EC-B3EF-3E0A887A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74F0-584B-4B86-BD90-023D07F06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essamine.k12.ky.us/" TargetMode="External"/><Relationship Id="rId2" Type="http://schemas.openxmlformats.org/officeDocument/2006/relationships/hyperlink" Target="http://www.sddial.k12.sd.us/esa/doc/staff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1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aching Matters, In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Phases of the Mapping Proces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1: Collecting th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teacher describes three major elements of the curriculum to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 classroom data about student experi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in terms of essential concepts and topics and as essential question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s and performances that are the assessments of learn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pecific information about daily lesson plan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not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2:  The First Read-Throu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ach teacher edits the map reading (non-judgmentally) to gain information about what is taught across the curricul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derline content, skills and assessment areas that are new to them or that they have questions 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ach teacher shares findings from individual review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o decisions, no judgment: simply state areas where information was gained, gaps, repetitions, areas for integration or any mismatches between outcomes and curriculum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Red-flag areas for attention but DO NOT re-writ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4:  Large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l facul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dings are gathered into a chart to encompass all small group reporting sessions (Phases 2 and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lay judgment: simply compile dat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5:  Determine what can be revised immediate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ke collaborative decisions and concessions where need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cont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assessments between elementary and middle/middle and hig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affolding gap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nre gaps or repet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heduling conflic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7: Continue the Review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tive and on-go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fin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Map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Curriculum Mapp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urriculum mapping is a multifaceted, on-going process designed to improve student learning.  All curricular decisions are data-driven and in the students’ best interest (Hayes-Jacobs,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 K-1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1997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Map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1:  Write in the dat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2: First read: review the data individuall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4: Large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5:  Determine revis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essamine.k12.ky.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ddial.k12.sd.us/esa/doc/staff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es-Jacobs, H. 1997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lexandria, VA: Association for Supervision and Curriculum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s trace the students’ journey throughout the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iculum across all content areas can be seen and analyzed glob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see what their colleagues do and t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er to align curriculum to stand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ed additions or deletions can be easily determ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ructional gaps and repetitions can be easily spot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is increa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align content with skills, standards and assess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data-driven instruction and decision-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Driven by essential question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Flight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flies?  How and why do things in nature fly?  What is the future of flight?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ntelligence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is intelligence?  How has intelligence evolved?  How is intelligence measured?  Is intelligence solely a human phenomenon?  How will intelligence be altered?  (Hayes-Jacobs, 1997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vigators use maps to chart a course. Although unforeseen  events and variables may affect their journey, they begin by making important choices about their route to avoid a meandering, rudderless voyage.  In similar fashion, teachers must make critical choices as they plot a course for their learners.  Essential questions are an exceptional tool for clearly and precisely communicating the pivotal points of the curriculum” (Hayes-Jacobs, 1997, p. 2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s and Sub-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Na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s and 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2:10:32Z</dcterms:created>
  <dc:creator>Your User Name</dc:creator>
  <dc:description/>
  <dc:language>en-US</dc:language>
  <cp:lastModifiedBy>Your User Name</cp:lastModifiedBy>
  <dcterms:modified xsi:type="dcterms:W3CDTF">2011-06-02T11:16:07Z</dcterms:modified>
  <cp:revision>36</cp:revision>
  <dc:subject/>
  <dc:title>Slide 1</dc:title>
</cp:coreProperties>
</file>