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C66-CEE6-45BD-8300-620A27B7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748-AF75-40D4-9EF3-BA07AA1C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6D7-303F-4447-B5BC-535BEA24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615-6593-44B1-ACFF-71FDE7A7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BDF-A397-4BE9-89D8-D04088B8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7B2-9700-4164-95D4-8FDEB578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D96-34EC-45A6-ACC0-0F811D3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263-CC04-4ECC-9812-9D19E985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0EC-8D9D-4CAB-B0B7-8B7762D4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8FE-5482-4DCB-BEAB-0DD46C2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D0E-8DDA-4BE6-8B47-DD0F24B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3F3-CD7B-4289-A561-880C4BC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74C-65C7-4B0B-9EBE-EA2F29AB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that they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6-02T11:16:07Z</dcterms:modified>
  <cp:revision>36</cp:revision>
  <dc:subject/>
  <dc:title>Slide 1</dc:title>
</cp:coreProperties>
</file>