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AA7-C6C7-456A-9ACE-5B732E43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4C3-9126-4189-A13D-4F6D1B25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842-8C4B-4331-97FA-CA4C7D02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E33-971D-4F09-BFF8-D8A16A9C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A01-C6DF-44BB-AB86-5B66D0AC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4FA-AFF5-4CC7-A819-665FE283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045-BF67-4B96-967E-72869452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EDA-056B-4879-85A4-14783FA9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1DD-D6A2-4FE2-8951-CFF01606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553-1AFA-4E6E-B518-BA63939E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47E-248A-4486-8A67-FAFA6EA1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6BE-426C-40EF-820E-58887278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C577-0EA2-4FCC-BE7E-12E988A8D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ing Matters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1: Collecting 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teacher describes three major elements of the curriculum to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 classroom data about student experi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in terms of essential concepts and topics and as essential ques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performances that are the assessments of learn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pecific information about daily lesson pla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ot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2:  The First Read-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teacher edits the map reading (non-judgmentally) to gain information about what is taught across the curricul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rline content, skills and assessment areas that are new to them or that they have questions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ach teacher shares findings from individual review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 decisions, no judgment: simply state areas where information was gained, gaps, repetitions, areas for integration or any mismatches between outcomes and curriculu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-flag areas for attention but DO NOT re-wri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4:  Large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facul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ings are gathered into a chart to encompass all small group reporting sessions (Phases 2 and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ay judgment: simply compil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5:  Determine what can be revised immediate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collaborative decisions and concessions where nee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cont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assessments between elementary and middle/middle and hig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ffolding ga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re gaps or repet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ing confli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7: Continue the Review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ve and on-g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 K-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1997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Ma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1:  Write in the dat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2: First read: review the data individuall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4: Large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5:  Determine revis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iven by essential question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light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flies?  How and why do things in nature fly?  What is the future of flight?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telligence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vigators use maps to chart a course. Although unforeseen  events and variables may affect their journey, they begin by making important choices about their route to avoid a meandering, rudderless voyage.  In similar fashion, teachers must make critical choices as they plot a course for their learners.  Essential questions are an exceptional tool for clearly and precisely communicating the pivotal points of the curriculum” (Hayes-Jacobs, 1997, p. 2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 and 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2:10:32Z</dcterms:created>
  <dc:creator>Your User Name</dc:creator>
  <dc:description/>
  <dc:language>en-US</dc:language>
  <cp:lastModifiedBy>Your User Name</cp:lastModifiedBy>
  <dcterms:modified xsi:type="dcterms:W3CDTF">2011-06-02T11:16:07Z</dcterms:modified>
  <cp:revision>36</cp:revision>
  <dc:subject/>
  <dc:title>Slide 1</dc:title>
</cp:coreProperties>
</file>