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48C-082C-4ADC-BDF3-65EB969D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826-219F-4228-91ED-E2C09A62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492-6EE1-4BBB-88FB-F7EC5F03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E66-D464-41D2-B3BC-350470B1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A25-0F7F-4CB3-8BE9-FD5DDF40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911-7A9C-44A4-A998-36B2F25C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DDA-F4BC-47C4-8B82-DE0CA8DD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971-CE51-4A07-AE5A-FF0640B9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66A-3B7C-45FE-BD5B-7C580CE4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0AF-6FB6-44AC-865D-B027EE15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C61-9710-4199-954B-13040F4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FAC-5FB1-46C4-86C7-3E2105A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5D6-717F-4649-8116-72ED064FF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q502plan.wikispaces.com/file/list?orderBy=date&amp;orderDir=desc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information was gained, noticed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q502plan.wikispaces.com/file/list?orderBy=date&amp;orderDir=des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seene vents and variables may affect their journey, they begin by making important choices about their route to avoid a meandering, rudderless voyabe.  In similar fashion, teachers must make critical choices as they plot a course for their learners.  Essentai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5-31T21:16:53Z</dcterms:modified>
  <cp:revision>35</cp:revision>
  <dc:subject/>
  <dc:title>Slide 1</dc:title>
</cp:coreProperties>
</file>