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240-A429-4F01-B140-41DB0155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32E-C03E-44CD-B9B8-943EE476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6EF-E046-4170-9482-A23B85C2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BFC-AD75-4E92-A3EF-0F1F44CC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D05-7BC0-4A4D-887D-0B1995AE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39E-F138-46CB-BAC3-8FB89C56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446-97ED-4B48-AD10-3F1E5ED9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AA8-EBD2-49E5-BA49-7F312282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BC8-A0EC-4263-890E-77DEB8A5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A94-F3D0-4408-B7A4-48AE8B8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32F-CC5A-4B86-9FED-2209EE97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C7E-D4D0-41EF-B70D-6A53094B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B6FF-DC0D-4FB8-8089-38CF4EB23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q502plan.wikispaces.com/file/list?orderBy=date&amp;orderDir=desc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ching Matters,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1: Collecting th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teacher describes three major elements of the curriculum to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 classroom data about student experi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in terms of essential concepts and topics and as essential ques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s and performances that are the assessments of learn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pecific information about daily lesson pla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not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2:  The First Read-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ch teacher edits the map reading (non-judgmentally) to gain information about what is taught across the curricul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derline content, skills and assessment areas that are new to them or have questions 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ach teacher shares findings from individual review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o decisions, no judgment: simply state areas information was gained, noticed gaps, repetitions, areas for integration or any mismatches between outcomes and curriculu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d-flag areas for attention but DO NOT re-wri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4:  Large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facul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ings are gathered into a chart to encompass all small group reporting sessions (Phases 2 and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lay judgment: simply compile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5:  Determine what can be revised immediate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 collaborative decisions and concessions where need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cont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assessments between elementary and middle/middle and hig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affolding ga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re gaps or repet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ing confli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7: Continue the Review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ve and on-g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q502plan.wikispaces.com/file/list?orderBy=date&amp;orderDir=des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 K-1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1997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Ma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1:  Write in the dat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2: First read: review the data individuall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4: Large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5:  Determine revis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riven by essential question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Flight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flies?  How and why do things in nature fly?  What is the future of flight?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telligence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vigators use maps to chart a course. Although unforseene vents and variables may affect their journey, they begin by making important choices about their route to avoid a meandering, rudderless voyabe.  In similar fashion, teachers must make critical choices as they plot a course for their learners.  Essentail questions are an exceptional tool for clearly and precisely communicating the pivotal points of the curriculum” (Hayes-Jacobs, 1997, p. 2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N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 and 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2:10:32Z</dcterms:created>
  <dc:creator>Your User Name</dc:creator>
  <dc:description/>
  <dc:language>en-US</dc:language>
  <cp:lastModifiedBy>Your User Name</cp:lastModifiedBy>
  <dcterms:modified xsi:type="dcterms:W3CDTF">2011-05-31T21:16:53Z</dcterms:modified>
  <cp:revision>35</cp:revision>
  <dc:subject/>
  <dc:title>Slide 1</dc:title>
</cp:coreProperties>
</file>