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5B0-9022-48B0-8ACF-18BA4B99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095-75A7-419B-9E77-D1A544A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B3D-8E1D-4218-AA71-1C3772B8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2B7-E0AB-4C36-BE87-3B48E53E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76B-66A4-4160-85C2-8773EC60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4D2-C874-4696-8B55-26828DC4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413-D614-40AF-9C9A-C284C90F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E88-942A-4CC4-A98B-B496611F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776-027A-47A9-BC0D-0BE82375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B83-3B36-4AA8-A70A-79A7932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D0A-6C43-4E04-B62F-4E0AF41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2C2-A85F-466C-B7A2-DD0D959C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2E97-9AB7-41AE-8EA4-922F45E3D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q502plan.wikispaces.com/file/list?orderBy=date&amp;orderDir=des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information was gained, noticed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q502plan.wikispaces.com/file/list?orderBy=date&amp;orderDir=des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seene vents and variables may affect their journey, they begin by making important choices about their route to avoid a meandering, rudderless voyabe.  In similar fashion, teachers must make critical choices as they plot a course for their learners.  Essentai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5-31T21:16:53Z</dcterms:modified>
  <cp:revision>35</cp:revision>
  <dc:subject/>
  <dc:title>Slide 1</dc:title>
</cp:coreProperties>
</file>