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EBE-E902-4D26-97E5-83CF0795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C24-DA06-49A3-8468-747A9F0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786-1C5C-4120-88A7-9974A486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C2C-11F1-44F1-82D5-78AE4CB5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DFE-3770-48DB-8AD9-D5033D51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FAA-DC61-4A55-90E7-3727E916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0CB-E9AB-421D-B863-CFA86B8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65F-0763-4C03-889B-E1905701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E56-2406-40F1-B12A-F9D4ADD1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5DF-BFFB-48F9-9575-90D4B057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B3C-CC2E-4C59-9FE6-3CE3A177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75C-465C-4A6F-B984-B611395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1C8A-F644-434E-AF12-3148912F4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q502plan.wikispaces.com/file/list?orderBy=date&amp;orderDir=desc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information was gained, noticed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q502plan.wikispaces.com/file/list?orderBy=date&amp;orderDir=des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seene vents and variables may affect their journey, they begin by making important choices about their route to avoid a meandering, rudderless voyabe.  In similar fashion, teachers must make critical choices as they plot a course for their learners.  Essentai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5-31T21:16:53Z</dcterms:modified>
  <cp:revision>35</cp:revision>
  <dc:subject/>
  <dc:title>Slide 1</dc:title>
</cp:coreProperties>
</file>