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8FC7-DC05-4AC7-9E57-7664748D3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D945-0550-4E13-9907-5B40F5988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24AC-708F-455E-BEA0-22689B8C6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B229-9B1B-46A6-89D6-4A6997983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58D8-A6F3-467C-A594-518A0EE96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5E88-C06A-48C8-84ED-265176392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6AB7-61B8-4AEF-924D-AE1F66271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EBB2-7D07-4069-998E-FD049D298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57EC-C0BD-4A29-9D31-98FBDCAD3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7EE2-ED45-410F-A726-56A343CDF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45A8-CB70-486D-B6C8-B9F470608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84E2-2306-4892-868D-35D893621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1081A-E01B-44C6-A333-FF8B59EFED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jessamine.k12.ky.us/" TargetMode="External"/><Relationship Id="rId2" Type="http://schemas.openxmlformats.org/officeDocument/2006/relationships/hyperlink" Target="http://www.sddial.k12.sd.us/esa/doc/staff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rriculum Mapping 10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aching Matters, In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20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76092"/>
                </a:solidFill>
                <a:latin typeface="Calibri"/>
              </a:rPr>
              <a:t>Phases of the Mapping Process: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hase 1: Collecting the Dat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ch teacher describes three major elements of the curriculum to includ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uthentic classroom data about student experience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tent in terms of essential concepts and topics and as essential question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ducts and performances that are the assessments of learning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ly specific information about daily lesson plans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re not need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hase 2:  The First Read-Throug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ach teacher edits the map reading (non-judgmentally) to gain information about what is taught across the curriculum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Underline content, skills and assessment areas that are new to them or that they have questions on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hase 3:  Mixed Group Re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Each teacher shares findings from individual reviews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No decisions, no judgment: simply state areas where information was gained, gaps, repetitions, areas for integration or any mismatches between outcomes and curriculum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Red-flag areas for attention but DO NOT re-write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hase 4:  Large Group Re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ll facult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Findings are gathered into a chart to encompass all small group reporting sessions (Phases 2 and 3)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Delay judgment: simply compile data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hase 5:  Determine what can be revised immediatel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Make collaborative decisions and concessions where neede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Phase 6:  Determine points that require long-term research and developm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Gaps in content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Gaps in assessments between elementary and middle/middle and high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caffolding gap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Genre gaps or repetiti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cheduling conflict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hase 7: Continue the Review Cycl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ctive and on-go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ommunic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Refinem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ahoma"/>
              </a:rPr>
              <a:t>Curriculum Templ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609480" y="1828800"/>
          <a:ext cx="8001000" cy="4495680"/>
        </p:xfrm>
        <a:graphic>
          <a:graphicData uri="http://schemas.openxmlformats.org/drawingml/2006/table">
            <a:tbl>
              <a:tblPr/>
              <a:tblGrid>
                <a:gridCol w="1441440"/>
                <a:gridCol w="1298880"/>
                <a:gridCol w="1260360"/>
                <a:gridCol w="1190520"/>
                <a:gridCol w="1476360"/>
                <a:gridCol w="1333440"/>
              </a:tblGrid>
              <a:tr h="75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ssential Ques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nou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kil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verb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ssess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ndar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ptemb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ctob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9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vemb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cemb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ua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ahoma"/>
              </a:rPr>
              <a:t>Curriculum Map Templ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609480" y="1828800"/>
          <a:ext cx="8001000" cy="4495680"/>
        </p:xfrm>
        <a:graphic>
          <a:graphicData uri="http://schemas.openxmlformats.org/drawingml/2006/table">
            <a:tbl>
              <a:tblPr/>
              <a:tblGrid>
                <a:gridCol w="1441440"/>
                <a:gridCol w="1298880"/>
                <a:gridCol w="1260360"/>
                <a:gridCol w="1190520"/>
                <a:gridCol w="1476360"/>
                <a:gridCol w="1333440"/>
              </a:tblGrid>
              <a:tr h="75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ssential Ques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nou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kil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verb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ssess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ndar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brua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9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pr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Curriculum Mapping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urriculum mapping is a multifaceted, on-going process designed to improve student learning.  All curricular decisions are data-driven and in the students’ best interest (Hayes-Jacobs, </a:t>
            </a: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Mapping the Big Picture: Integrating Curriculum and Assessment K-12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, 1997)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t’s Map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Phase 1:  Write in the data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Phase 2: First read: review the data individually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Phase 3:  Mixed group review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Phase 4: Large group review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Phase 5:  Determine revisions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Phase 6:  Determine points that require long-term research and development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jessamine.k12.ky.u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RETRIEVED 5/31/20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sddial.k12.sd.us/esa/doc/staff/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RETRIEVED 5/31/20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yes-Jacobs, H. 1997.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pping the big picture: Integrating curriculum and assessment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Alexandria, VA: Association for Supervision and Curriculum Developm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y Map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Ms trace the students’ journey throughout the syste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urriculum across all content areas can be seen and analyzed globall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achers can see what their colleagues do and teac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asier to align curriculum to standar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ed additions or deletions can be easily determin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y Map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tructional gaps and repetitions can be easily spott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munication is increas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achers can align content with skills, standards and assessmen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pports data-driven instruction and decision-mak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y Map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Driven by essential questions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libri"/>
              </a:rPr>
              <a:t>Flight:</a:t>
            </a: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  What flies?  How and why do things in nature fly?  What is the future of flight?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libri"/>
              </a:rPr>
              <a:t>Intelligence:</a:t>
            </a: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  What is intelligence?  How has intelligence evolved?  How is intelligence measured?  Is intelligence solely a human phenomenon?  How will intelligence be altered?  (Hayes-Jacobs, 1997)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avigators use maps to chart a course. Although unforeseen  events and variables may affect their journey, they begin by making important choices about their route to avoid a meandering, rudderless voyage.  In similar fashion, teachers must make critical choices as they plot a course for their learners.  Essential questions are an exceptional tool for clearly and precisely communicating the pivotal points of the curriculum” (Hayes-Jacobs, 1997, p. 25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rriculum Mapping Vocabul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ssential Ques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kil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sess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ss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its and Sub-Un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nda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mon C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negotiable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Unit Nam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ssential Ques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onten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kill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tandards and Performance Indicato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gotiable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ess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ctivit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ss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31T12:10:32Z</dcterms:created>
  <dc:creator>Your User Name</dc:creator>
  <dc:description/>
  <dc:language>en-US</dc:language>
  <cp:lastModifiedBy>Your User Name</cp:lastModifiedBy>
  <dcterms:modified xsi:type="dcterms:W3CDTF">2011-06-02T11:16:07Z</dcterms:modified>
  <cp:revision>36</cp:revision>
  <dc:subject/>
  <dc:title>Slide 1</dc:title>
</cp:coreProperties>
</file>